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427-3321-4997-ADE2-AE93A651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5DD-AD49-4161-9B73-D3854B89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4A7-A664-4965-A414-92CCE965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A18-6768-475B-AD4D-A4F47C1F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A45D-3C64-43C2-994F-D1CE156B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8CAA-3D24-4436-B2C6-CC626422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32B1-8A52-4F2F-BFCE-29D0E8C5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BEA7-F218-4E57-A845-B162F11C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7675-FBE0-4460-9590-BBFAB9F9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25D0-E48B-460D-AAD8-0083B342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34A8-58D0-4A3E-A44C-B7E1CB1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96B-39FE-4A7C-8F67-702343C6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EDD6-D194-4874-9E81-18FB3C63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0466-F639-4386-8ACE-AD3D78AB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0230-0FAB-4812-8354-10C753CA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D79F-318A-4D19-A524-287DD9D2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A788-3703-499E-9AD7-7247E4C8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DB4-32EB-4450-8244-60AEC230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0EF-C6C3-49DB-AF0E-9F5191E1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531-5BC2-40A0-A407-0C2867CC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3A6-3A75-4C6F-A279-627C151F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5BE-53BF-4AA3-841F-2CABD615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427-4059-4481-9313-13350C7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DAF-2B2A-47A2-AC23-792B61B3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7B88-D749-4EE4-9901-3FA01E3EA7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40DB-186A-4443-B2BD-E0CF62FDA8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cs.photographer.ru/nonstop/pics/pictures/623/62344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arhya.od.ua/_nw/0/s4083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46080" y="1794960"/>
            <a:ext cx="5927400" cy="1955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Деревянное зодчество Древней Рус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3860640"/>
            <a:ext cx="655308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рагмент веранд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367344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ин из наиболее распространенных в Заонежье домов-комплексов, получивших название "кошель". Под одной крышей объединены избы, кладовые, сараи, скотные дворы с хлевом и сеновалы. Нарядная часть дома, обращенная к озеру, отводилась под                           жил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Дом Ошевнева (фрагмент веранды), 1876. Деревня Ошевнево"/>
          <p:cNvPicPr/>
          <p:nvPr/>
        </p:nvPicPr>
        <p:blipFill>
          <a:blip r:embed="rId1"/>
          <a:stretch/>
        </p:blipFill>
        <p:spPr>
          <a:xfrm>
            <a:off x="3851280" y="2349360"/>
            <a:ext cx="510840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здальский хра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672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Русское средневековое зодчество - одна из наиболее ярких страниц в истории культуры Руси. Памятники архитектуры наполняют живым, образным содержанием наши представления о развитии культуры, помогают понять многие стороны истории, не нашедшие отражения в письменных источника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2" descr="Картинка 1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1628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изуче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56000" y="1268280"/>
            <a:ext cx="4176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рия зодчества Древней Руси - молодая наука. Еще в XVIII в. памятники древнерусской архитектуры обычно называли готическими. Сам термин свидетельствует, что памятники эти отличали от построек античного и нового времени, но не отделяли от архитектуры других стран, не видели национальной специфики русского зодчества. Средневековые памятники в продолжение всего XVIII в. считали варварскими, памятниками дурного вкуса, недо­стойными изуч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8" descr="Картинка 15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840" y="1341360"/>
            <a:ext cx="383364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Часовня Михаила Архангела, XVII-XVI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414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асовня Архангела Михаила из деревни Леликозеро - одна из архитектурных жемчужин Русского Севера. Кроме того, как и многие другие часовни, она была самым красивым строением деревни и дарила жителям немало светлых, праздничных мину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Часовня Михаила Архангела, XVII-XVIII в."/>
          <p:cNvPicPr/>
          <p:nvPr/>
        </p:nvPicPr>
        <p:blipFill>
          <a:blip r:embed="rId1"/>
          <a:stretch/>
        </p:blipFill>
        <p:spPr>
          <a:xfrm>
            <a:off x="4067280" y="2060640"/>
            <a:ext cx="4309920" cy="32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ознесенская кубоватая церковь, 1669 г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4065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побережье Белого моря тип кубоватого храма был широко распространен. Кубом называют сложную форму покрытия, напоминающую четырехгранную луковицу. Отличительная особенность архитектурного облика северных кубоватых церквей - их красота, изящество и гармо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Вознесенская кубоватая церковь, 1669 г. Село Кушерека Онежского района"/>
          <p:cNvPicPr/>
          <p:nvPr/>
        </p:nvPicPr>
        <p:blipFill>
          <a:blip r:embed="rId1"/>
          <a:stretch/>
        </p:blipFill>
        <p:spPr>
          <a:xfrm>
            <a:off x="324000" y="1700280"/>
            <a:ext cx="355104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м-двор Русиновой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синовы - богатая купеческая семья XVII века. Точное время постройки сохранившихся палат неизвестно; предположительно, они были поставлены в середине XVII столет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Дом-двор Русиновой. Деревня Кондратьевская."/>
          <p:cNvPicPr/>
          <p:nvPr/>
        </p:nvPicPr>
        <p:blipFill>
          <a:blip r:embed="rId1"/>
          <a:stretch/>
        </p:blipFill>
        <p:spPr>
          <a:xfrm>
            <a:off x="4211640" y="2060640"/>
            <a:ext cx="4932360" cy="3611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асовня Трех Святителей, XVII в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42829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самом высоком холме лесистой местности в Кондопожском районе Карелии когда-то располагалась деревня Кавгора. Здесь, окруженная кольцом валунов, в соседстве с елями-великанами высилась часовня Трех святителей: Василия Великого, Иоанна Златоуста, Григория Богослов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Часовня Трех Святителей, XVII в. Деревня Кавгора"/>
          <p:cNvPicPr/>
          <p:nvPr/>
        </p:nvPicPr>
        <p:blipFill>
          <a:blip r:embed="rId1"/>
          <a:stretch/>
        </p:blipFill>
        <p:spPr>
          <a:xfrm>
            <a:off x="684360" y="1700280"/>
            <a:ext cx="36018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mic Sans MS"/>
              </a:rPr>
              <a:t>Дом Сергеевой из деревни Липовицы, конец XIX - начало XX вв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349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ипичный заонежский дом, построенный на рубеже веков, в котором старинные конструктивные приемы сочетаются с новыми тенденциями деревянного зодчества. Прекрасный образец народного строительного искус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Дом Сергеевой из деревни Липовицы, конец XIX - начало XX вв."/>
          <p:cNvPicPr/>
          <p:nvPr/>
        </p:nvPicPr>
        <p:blipFill>
          <a:blip r:embed="rId1"/>
          <a:stretch/>
        </p:blipFill>
        <p:spPr>
          <a:xfrm>
            <a:off x="4464000" y="1844640"/>
            <a:ext cx="468000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рхитектурный ансамбль Спасского Кижского погоста, XV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"Погост Спасский на Кижах на Онеге озере. А на погосте церковь Преображенье спасово, а другая церковь Покров Святии Богородицы" (из писцовой книги московского дьяка Андрея Плещеева о заонежских погостах 1582-1583 гг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7" descr="Архитектурный ансамбль Спасского Кижского погоста, XVII в."/>
          <p:cNvPicPr/>
          <p:nvPr/>
        </p:nvPicPr>
        <p:blipFill>
          <a:blip r:embed="rId1"/>
          <a:stretch/>
        </p:blipFill>
        <p:spPr>
          <a:xfrm>
            <a:off x="179280" y="2060640"/>
            <a:ext cx="4608720" cy="41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8:47:45Z</dcterms:created>
  <dc:creator>Admin</dc:creator>
  <dc:description/>
  <dc:language>en-US</dc:language>
  <cp:lastModifiedBy>0</cp:lastModifiedBy>
  <dcterms:modified xsi:type="dcterms:W3CDTF">2020-11-27T09:58:35Z</dcterms:modified>
  <cp:revision>10</cp:revision>
  <dc:subject/>
  <dc:title>Золотое сечение в архитектуре.</dc:title>
</cp:coreProperties>
</file>