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CCF1-6753-48F0-ABF2-DDC8DF7EF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E946-A76C-4CF7-9923-6070978E0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FCA8-E03F-4264-84F8-D4FA92F14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A66C-B84D-4385-A7F1-B2E113F66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6FB47-79A0-4432-A48F-1E90CDCE6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55A93-1C11-46E5-823F-2375758F4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1DE03-E093-49E5-BF7B-108CBA7B3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81EE9-6DC9-4955-9520-EA52F8BF0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83828-E2AE-4147-8E7D-30E8625E9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A8AD9-B961-42E5-B1F9-080F47068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2A44A-04F6-4719-8C2D-365F32C76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9BB1-3F99-4596-8261-07DA2F485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53015-20D0-4D0B-91B5-0A0F91895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4AB9C-51F7-4245-8B9C-608C7B474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056BB-EA7D-419A-81DE-E201801CA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9772C-C204-4B49-BFDD-628021521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707C9-13D8-48AD-8C9C-247C1A2B0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2FA8-63F0-442E-8ACB-6FDCA55FC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709F-5DBF-413D-AAD9-50CCDEEF9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7AD4-EC15-491B-8C95-DD97EEDEA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CBC0-0274-4BA2-97A5-9ABB578C9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F3AE-3722-4495-B529-45FB3C4D8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1EDA-2BA0-4E8E-A259-F533BD7E7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9455-8192-454A-9C87-CA099E9DF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4A313-0C6C-4B45-B9BE-7EF3ECC57DF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C8D0E-2521-4EB0-9CED-E46F3320EA7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pics.photographer.ru/nonstop/pics/pictures/623/623448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eparhya.od.ua/_nw/0/s40838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846080" y="1794960"/>
            <a:ext cx="5927400" cy="195588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ff"/>
                </a:solidFill>
                <a:latin typeface="Comic Sans MS"/>
              </a:rPr>
              <a:t>Деревянное зодчество Древней Руси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476000" y="3860640"/>
            <a:ext cx="6553080" cy="17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Фрагмент веранды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50920" y="1828800"/>
            <a:ext cx="3673440" cy="39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Один из наиболее распространенных в Заонежье домов-комплексов, получивших название "кошель". Под одной крышей объединены избы, кладовые, сараи, скотные дворы с хлевом и сеновалы. Нарядная часть дома, обращенная к озеру, отводилась под                           жилье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9" name="Picture 6" descr="Дом Ошевнева (фрагмент веранды), 1876. Деревня Ошевнево"/>
          <p:cNvPicPr/>
          <p:nvPr/>
        </p:nvPicPr>
        <p:blipFill>
          <a:blip r:embed="rId1"/>
          <a:stretch/>
        </p:blipFill>
        <p:spPr>
          <a:xfrm>
            <a:off x="3851280" y="2349360"/>
            <a:ext cx="5108400" cy="3106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0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6920" y="-24336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Суздальский храм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16000" y="1268280"/>
            <a:ext cx="36720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   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Русское средневековое зодчество - одна из наиболее ярких страниц в истории культуры Руси. Памятники архитектуры наполняют живым, образным содержанием наши представления о развитии культуры, помогают понять многие стороны истории, не нашедшие отражения в письменных источниках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5" name="Picture 12" descr="Картинка 1 из 31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0" y="1916280"/>
            <a:ext cx="4297320" cy="4297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55280" y="-45900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История изучения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356000" y="1268280"/>
            <a:ext cx="417672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  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История зодчества Древней Руси - молодая наука. Еще в XVIII в. памятники древнерусской архитектуры обычно называли готическими. Сам термин свидетельствует, что памятники эти отличали от построек античного и нового времени, но не отделяли от архитектуры других стран, не видели национальной специфики русского зодчества. Средневековые памятники в продолжение всего XVIII в. считали варварскими, памятниками дурного вкуса, недо­стойными изучения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8" name="Picture 8" descr="Картинка 15 из 31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4840" y="1341360"/>
            <a:ext cx="3833640" cy="511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Часовня Михаила Архангела, XVII-XVIII в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4000" y="1699920"/>
            <a:ext cx="3414600" cy="455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Часовня Архангела Михаила из деревни Леликозеро - одна из архитектурных жемчужин Русского Севера. Кроме того, как и многие другие часовни, она была самым красивым строением деревни и дарила жителям немало светлых, праздничных минут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1" name="Picture 7" descr="Часовня Михаила Архангела, XVII-XVIII в."/>
          <p:cNvPicPr/>
          <p:nvPr/>
        </p:nvPicPr>
        <p:blipFill>
          <a:blip r:embed="rId1"/>
          <a:stretch/>
        </p:blipFill>
        <p:spPr>
          <a:xfrm>
            <a:off x="4067280" y="2060640"/>
            <a:ext cx="4309920" cy="32907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768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" dur="768" fill="hold"/>
                                        <p:tgtEl>
                                          <p:spTgt spid="1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1" dur="768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3" dur="768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Вознесенская кубоватая церковь, 1669 г.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09800" y="1828440"/>
            <a:ext cx="406548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а побережье Белого моря тип кубоватого храма был широко распространен. Кубом называют сложную форму покрытия, напоминающую четырехгранную луковицу. Отличительная особенность архитектурного облика северных кубоватых церквей - их красота, изящество и гармония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4" name="Picture 7" descr="Вознесенская кубоватая церковь, 1669 г. Село Кушерека Онежского района"/>
          <p:cNvPicPr/>
          <p:nvPr/>
        </p:nvPicPr>
        <p:blipFill>
          <a:blip r:embed="rId1"/>
          <a:stretch/>
        </p:blipFill>
        <p:spPr>
          <a:xfrm>
            <a:off x="324000" y="1700280"/>
            <a:ext cx="3551040" cy="4941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Дом-двор Русиновой.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усиновы - богатая купеческая семья XVII века. Точное время постройки сохранившихся палат неизвестно; предположительно, они были поставлены в середине XVII столетия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Picture 7" descr="Дом-двор Русиновой. Деревня Кондратьевская."/>
          <p:cNvPicPr/>
          <p:nvPr/>
        </p:nvPicPr>
        <p:blipFill>
          <a:blip r:embed="rId1"/>
          <a:stretch/>
        </p:blipFill>
        <p:spPr>
          <a:xfrm>
            <a:off x="4211640" y="2060640"/>
            <a:ext cx="4932360" cy="36115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898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898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Часовня Трех Святителей, XVII в.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09800" y="1828800"/>
            <a:ext cx="4282920" cy="46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а самом высоком холме лесистой местности в Кондопожском районе Карелии когда-то располагалась деревня Кавгора. Здесь, окруженная кольцом валунов, в соседстве с елями-великанами высилась часовня Трех святителей: Василия Великого, Иоанна Златоуста, Григория Богослова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0" name="Picture 5" descr="Часовня Трех Святителей, XVII в. Деревня Кавгора"/>
          <p:cNvPicPr/>
          <p:nvPr/>
        </p:nvPicPr>
        <p:blipFill>
          <a:blip r:embed="rId1"/>
          <a:stretch/>
        </p:blipFill>
        <p:spPr>
          <a:xfrm>
            <a:off x="684360" y="1700280"/>
            <a:ext cx="3601800" cy="5013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Comic Sans MS"/>
              </a:rPr>
              <a:t>Дом Сергеевой из деревни Липовицы, конец XIX - начало XX вв.</a:t>
            </a:r>
            <a:endParaRPr b="0" lang="en-US" sz="3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8920" y="1773000"/>
            <a:ext cx="434988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Типичный заонежский дом, построенный на рубеже веков, в котором старинные конструктивные приемы сочетаются с новыми тенденциями деревянного зодчества. Прекрасный образец народного строительного искусств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3" name="Picture 7" descr="Дом Сергеевой из деревни Липовицы, конец XIX - начало XX вв."/>
          <p:cNvPicPr/>
          <p:nvPr/>
        </p:nvPicPr>
        <p:blipFill>
          <a:blip r:embed="rId1"/>
          <a:stretch/>
        </p:blipFill>
        <p:spPr>
          <a:xfrm>
            <a:off x="4464000" y="1844640"/>
            <a:ext cx="4680000" cy="4037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8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384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Архитектурный ансамбль Спасского Кижского погоста, XVII в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608360" y="1828800"/>
            <a:ext cx="37735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"Погост Спасский на Кижах на Онеге озере. А на погосте церковь Преображенье спасово, а другая церковь Покров Святии Богородицы" (из писцовой книги московского дьяка Андрея Плещеева о заонежских погостах 1582-1583 гг.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6" name="Picture 7" descr="Архитектурный ансамбль Спасского Кижского погоста, XVII в."/>
          <p:cNvPicPr/>
          <p:nvPr/>
        </p:nvPicPr>
        <p:blipFill>
          <a:blip r:embed="rId1"/>
          <a:stretch/>
        </p:blipFill>
        <p:spPr>
          <a:xfrm>
            <a:off x="179280" y="2060640"/>
            <a:ext cx="4608720" cy="4108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7T08:47:45Z</dcterms:created>
  <dc:creator>Admin</dc:creator>
  <dc:description/>
  <dc:language>en-US</dc:language>
  <cp:lastModifiedBy>0</cp:lastModifiedBy>
  <dcterms:modified xsi:type="dcterms:W3CDTF">2020-11-27T09:58:35Z</dcterms:modified>
  <cp:revision>10</cp:revision>
  <dc:subject/>
  <dc:title>Золотое сечение в архитектуре.</dc:title>
</cp:coreProperties>
</file>