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21CC-B561-470D-A126-F340E0FA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D60C-78D3-42FC-84D9-7DC0579D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8C7-3837-4ABC-9B72-637E3BF6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30A3-5B0A-421D-BB49-55A870A6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7094-2BB4-492B-8A57-BFC46AE4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C36D-D33B-4DE5-AA6B-8892675B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3500-0BBD-4DD8-970D-B9CFC587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B50E-BBF6-42F0-9C30-6029BD58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8191-1A6F-446D-8260-94976DAB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89C0-3A4D-4B25-AD43-D7227240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81C3-DD7A-4AE3-AD72-DBC6EEBD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444-9566-4DA5-B956-398A873D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6149-4D93-486F-99BD-3472DB77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3518-45BC-46CA-A16E-DF59E6F5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3D2E-500E-4489-84A2-A8F00D3B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E531-4E56-4604-88CD-CB77129B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17BE-7DB7-4C87-A764-20929B33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761-183D-4723-BECA-52089D96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6B98-AF01-41E1-8047-18274CD6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B44-52BE-4FF6-B7D0-A3F49228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E7D-E657-4ACA-AE37-8FFDC264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065F-6F22-4BC6-BC9F-BDAEA6D5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53D-9C09-40C3-BF32-1AB93C8F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583A-FA8C-4844-A704-9890BC44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0472-B103-4A33-9099-1822231385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8275-BB5E-43EA-A7C2-17C7B4FB3B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ics.photographer.ru/nonstop/pics/pictures/623/623448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parhya.od.ua/_nw/0/s4083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46080" y="1794960"/>
            <a:ext cx="5927400" cy="1955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Деревянное зодчество Древней Рус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76000" y="3860640"/>
            <a:ext cx="655308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Фрагмент веранды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367344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ин из наиболее распространенных в Заонежье домов-комплексов, получивших название "кошель". Под одной крышей объединены избы, кладовые, сараи, скотные дворы с хлевом и сеновалы. Нарядная часть дома, обращенная к озеру, отводилась под                           жиль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Дом Ошевнева (фрагмент веранды), 1876. Деревня Ошевнево"/>
          <p:cNvPicPr/>
          <p:nvPr/>
        </p:nvPicPr>
        <p:blipFill>
          <a:blip r:embed="rId1"/>
          <a:stretch/>
        </p:blipFill>
        <p:spPr>
          <a:xfrm>
            <a:off x="3851280" y="2349360"/>
            <a:ext cx="5108400" cy="31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уздальский храм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672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Русское средневековое зодчество - одна из наиболее ярких страниц в истории культуры Руси. Памятники архитектуры наполняют живым, образным содержанием наши представления о развитии культуры, помогают понять многие стороны истории, не нашедшие отражения в письменных источниках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12" descr="Картинка 1 из 3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916280"/>
            <a:ext cx="4297320" cy="429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стория изучени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56000" y="1268280"/>
            <a:ext cx="4176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тория зодчества Древней Руси - молодая наука. Еще в XVIII в. памятники древнерусской архитектуры обычно называли готическими. Сам термин свидетельствует, что памятники эти отличали от построек античного и нового времени, но не отделяли от архитектуры других стран, не видели национальной специфики русского зодчества. Средневековые памятники в продолжение всего XVIII в. считали варварскими, памятниками дурного вкуса, недо­стойными изучен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8" descr="Картинка 15 из 3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4840" y="1341360"/>
            <a:ext cx="3833640" cy="511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Часовня Михаила Архангела, XVII-XVIII 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34146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асовня Архангела Михаила из деревни Леликозеро - одна из архитектурных жемчужин Русского Севера. Кроме того, как и многие другие часовни, она была самым красивым строением деревни и дарила жителям немало светлых, праздничных мину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7" descr="Часовня Михаила Архангела, XVII-XVIII в."/>
          <p:cNvPicPr/>
          <p:nvPr/>
        </p:nvPicPr>
        <p:blipFill>
          <a:blip r:embed="rId1"/>
          <a:stretch/>
        </p:blipFill>
        <p:spPr>
          <a:xfrm>
            <a:off x="4067280" y="2060640"/>
            <a:ext cx="4309920" cy="3290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ознесенская кубоватая церковь, 1669 г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09800" y="1828440"/>
            <a:ext cx="4065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побережье Белого моря тип кубоватого храма был широко распространен. Кубом называют сложную форму покрытия, напоминающую четырехгранную луковицу. Отличительная особенность архитектурного облика северных кубоватых церквей - их красота, изящество и гармо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7" descr="Вознесенская кубоватая церковь, 1669 г. Село Кушерека Онежского района"/>
          <p:cNvPicPr/>
          <p:nvPr/>
        </p:nvPicPr>
        <p:blipFill>
          <a:blip r:embed="rId1"/>
          <a:stretch/>
        </p:blipFill>
        <p:spPr>
          <a:xfrm>
            <a:off x="324000" y="1700280"/>
            <a:ext cx="3551040" cy="49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Дом-двор Русиновой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усиновы - богатая купеческая семья XVII века. Точное время постройки сохранившихся палат неизвестно; предположительно, они были поставлены в середине XVII столет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7" descr="Дом-двор Русиновой. Деревня Кондратьевская."/>
          <p:cNvPicPr/>
          <p:nvPr/>
        </p:nvPicPr>
        <p:blipFill>
          <a:blip r:embed="rId1"/>
          <a:stretch/>
        </p:blipFill>
        <p:spPr>
          <a:xfrm>
            <a:off x="4211640" y="2060640"/>
            <a:ext cx="4932360" cy="3611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Часовня Трех Святителей, XVII в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428292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самом высоком холме лесистой местности в Кондопожском районе Карелии когда-то располагалась деревня Кавгора. Здесь, окруженная кольцом валунов, в соседстве с елями-великанами высилась часовня Трех святителей: Василия Великого, Иоанна Златоуста, Григория Богослов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Часовня Трех Святителей, XVII в. Деревня Кавгора"/>
          <p:cNvPicPr/>
          <p:nvPr/>
        </p:nvPicPr>
        <p:blipFill>
          <a:blip r:embed="rId1"/>
          <a:stretch/>
        </p:blipFill>
        <p:spPr>
          <a:xfrm>
            <a:off x="684360" y="1700280"/>
            <a:ext cx="36018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omic Sans MS"/>
              </a:rPr>
              <a:t>Дом Сергеевой из деревни Липовицы, конец XIX - начало XX вв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43498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ипичный заонежский дом, построенный на рубеже веков, в котором старинные конструктивные приемы сочетаются с новыми тенденциями деревянного зодчества. Прекрасный образец народного строительного искус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7" descr="Дом Сергеевой из деревни Липовицы, конец XIX - начало XX вв."/>
          <p:cNvPicPr/>
          <p:nvPr/>
        </p:nvPicPr>
        <p:blipFill>
          <a:blip r:embed="rId1"/>
          <a:stretch/>
        </p:blipFill>
        <p:spPr>
          <a:xfrm>
            <a:off x="4464000" y="1844640"/>
            <a:ext cx="4680000" cy="40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3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Архитектурный ансамбль Спасского Кижского погоста, XVII 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"Погост Спасский на Кижах на Онеге озере. А на погосте церковь Преображенье спасово, а другая церковь Покров Святии Богородицы" (из писцовой книги московского дьяка Андрея Плещеева о заонежских погостах 1582-1583 гг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7" descr="Архитектурный ансамбль Спасского Кижского погоста, XVII в."/>
          <p:cNvPicPr/>
          <p:nvPr/>
        </p:nvPicPr>
        <p:blipFill>
          <a:blip r:embed="rId1"/>
          <a:stretch/>
        </p:blipFill>
        <p:spPr>
          <a:xfrm>
            <a:off x="179280" y="2060640"/>
            <a:ext cx="4608720" cy="41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08:47:45Z</dcterms:created>
  <dc:creator>Admin</dc:creator>
  <dc:description/>
  <dc:language>en-US</dc:language>
  <cp:lastModifiedBy>0</cp:lastModifiedBy>
  <dcterms:modified xsi:type="dcterms:W3CDTF">2020-11-27T09:58:35Z</dcterms:modified>
  <cp:revision>10</cp:revision>
  <dc:subject/>
  <dc:title>Золотое сечение в архитектуре.</dc:title>
</cp:coreProperties>
</file>